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ject: English</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cturer: Dusica Obradov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biotic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the mechanisms of antibiotic reaction were not scientifically understood until the late 20</a:t>
            </a:r>
            <a:r>
              <a:rPr b="0" lang="en-US" sz="2000" spc="-1" strike="noStrike" baseline="30000">
                <a:solidFill>
                  <a:srgbClr val="000000"/>
                </a:solidFill>
                <a:latin typeface="Arial"/>
              </a:rPr>
              <a:t>th</a:t>
            </a:r>
            <a:r>
              <a:rPr b="0" lang="en-US" sz="2000" spc="-1" strike="noStrike">
                <a:solidFill>
                  <a:srgbClr val="000000"/>
                </a:solidFill>
                <a:latin typeface="Arial"/>
              </a:rPr>
              <a:t> century, the principle of using organic compounds to fight infection has been known since ancient times. Crude plant extracts were used medicinally for centuries, and there is anecdotal  evidence for the use of cheese molds for topical treatment of infection. The first observation of what would now be called an antibiotic effect was made in the 19</a:t>
            </a:r>
            <a:r>
              <a:rPr b="0" lang="en-US" sz="2000" spc="-1" strike="noStrike" baseline="30000">
                <a:solidFill>
                  <a:srgbClr val="000000"/>
                </a:solidFill>
                <a:latin typeface="Arial"/>
              </a:rPr>
              <a:t>th</a:t>
            </a:r>
            <a:r>
              <a:rPr b="0" lang="en-US" sz="2000" spc="-1" strike="noStrike">
                <a:solidFill>
                  <a:srgbClr val="000000"/>
                </a:solidFill>
                <a:latin typeface="Arial"/>
              </a:rPr>
              <a:t> century by French chemist Louis Pasteur, who discovered that certain saprophytic bacteria can kill anthrax bacilli. In the first decade of the 20</a:t>
            </a:r>
            <a:r>
              <a:rPr b="0" lang="en-US" sz="2000" spc="-1" strike="noStrike" baseline="30000">
                <a:solidFill>
                  <a:srgbClr val="000000"/>
                </a:solidFill>
                <a:latin typeface="Arial"/>
              </a:rPr>
              <a:t>th</a:t>
            </a:r>
            <a:r>
              <a:rPr b="0" lang="en-US" sz="2000" spc="-1" strike="noStrike">
                <a:solidFill>
                  <a:srgbClr val="000000"/>
                </a:solidFill>
                <a:latin typeface="Arial"/>
              </a:rPr>
              <a:t> century, German physician and chemist Paul Ehrlich began experimenting with the synthesis of organic compounds that would selectively attack an infecting organis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prophy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ochae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ysozy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teomyel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tridi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let f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phalospor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inoglycosi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tracyclin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id people use instead of antibiotics in ancient tim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discovered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ouldn’t penicillin be given by mouth in its original f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continued the research with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penicillin 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disease-bearing organisms are sensitive to penicil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antibiotic was the major treatment for tubercul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antibiotics be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are antibiotics so important in surgical proced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potential side effect of intermittent dosing with small doses of antibiotic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similar words to the following:</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u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mul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ibi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o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the opposite words to the following:</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cess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ewe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st famous antibiotic 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ntibiotic to be used successfully in the treatment of human disease wa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have been developed to treat shingles and chicken pox.</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biotics can be classified according t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s also been used in the treatment or prevention of fungal and protozoan disea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any antibiotic or medication should be under...............................</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of the topics and write a few sentence about it:</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your attitude towards the use of antibiotic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en pharmacy – yes or n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1:23:36Z</dcterms:modified>
  <cp:revision>24</cp:revision>
  <dc:subject/>
  <dc:title>Slide 1</dc:title>
</cp:coreProperties>
</file>